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AF7-DA87-4D9D-A394-C8EA09B3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FBA-AA2F-45A8-A5CE-A9A90141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D4B2-6DCF-4140-8213-EAF5E34B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AA3A-04B0-4139-955F-CEB61327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3A16-EDB0-4EE9-8F99-62C788D8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E799-057F-4465-8655-FB94EACD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EA26-B6B4-45D0-A79E-18473C2D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39D4-1F48-4BFE-82EF-F487F17B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308B-E695-4DC3-952D-75FD88EB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7BA6-10C0-46D8-845C-F9ABFAF9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6DFE-4B97-49DF-92E3-2C741930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490-82AC-4EE3-AE69-D2F11C92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D14B-330C-4702-8B5D-025382D7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CB77-BC4B-442B-BDB4-4E64984E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FC98-69B2-453F-95CC-7CB335AC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392C-208B-4D0B-ACB1-1311F051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9819-B641-4E3C-A5E6-61AE88B2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53230-22AA-4F6E-9E3B-5FC5A66D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E06B3-17BB-40D0-8AB7-D5A788FC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F60BF-8EB8-466D-96EF-34D3EC3C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6B10B-61A8-4050-A303-96E92263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D4BFC-E846-4108-BA91-A725D64A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41D0-8CF6-402B-A110-DE204C84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706C9-1879-4793-ACD0-6CFA0E9F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54976-8E55-4499-9207-1993B99F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E2789-7AD6-4C15-8881-8A34C9DC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476DB-D64C-4549-8853-8C770A77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EB437-383B-48E5-8DCF-3B7E0048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04A66-8613-4889-87B1-871948DF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E6F1A-C062-47A9-B331-3B94610A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6B1CF-F8FA-46B7-8900-8ED26F1F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D657B-BF6D-4572-8655-90B4DFF1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EE722-B23B-47F0-92F6-47A71CEA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3E1-BE98-44A5-9ACF-5377B54E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FD6BF-2AF5-4276-8EBB-F6D9F676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FA531-52A1-4E0A-BA65-27F9365D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4E1C5-6EE8-455B-841D-27928842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8F85A-6C4B-4D51-B849-69AF5A2F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6D39A-95DB-4E4D-B2A6-49D1D769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C43F5-7A77-4A18-8C8E-C8F38A40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30525-80D0-4E4B-AEE4-615D529F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B31E5-3E92-4772-B9E9-A8340106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EFA04-F672-47AB-B7E5-2A124C45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5913-BA60-4ED9-8C0A-C7AB8FA8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DE89-7FF4-4690-BBD5-8A336BA2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B6F7-A1FA-4FB2-96DB-E61ED455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DD6B-2D9F-4120-8081-2EFAEBF5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02C8-B787-46DE-BB0F-C34F3F75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A15624-A6BE-485A-B1BA-EC855A5BE0BA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19DB84-AB06-4105-8601-5FF1708FABE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F0372-8644-4759-948B-5E74B08BE440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24BA31-00DE-4240-80BA-6160CDC9D5B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D1D51-0153-4638-9A60-75BD0AC4D99E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4DD79B-9548-4343-A7EA-0C4D0627E8A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32DAF-70BF-4742-8C0B-45E3F20276B8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52497D-5105-4F34-AF0A-0D57AC50176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oan Bauer Author Study:  Reading Worksho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igurative Langua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Simile: 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A comparison of two unlike things using the words “like” or “as”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Metaphor: 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A comparison of two unlike things </a:t>
            </a:r>
            <a:r>
              <a:rPr b="0" i="1" lang="en-US" sz="3000" spc="-1" strike="noStrike">
                <a:solidFill>
                  <a:srgbClr val="000000"/>
                </a:solidFill>
                <a:latin typeface="Constantia"/>
              </a:rPr>
              <a:t>not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using the words “like” or “as”; a comparison where you state that one thing </a:t>
            </a:r>
            <a:r>
              <a:rPr b="0" i="1" lang="en-US" sz="3000" spc="-1" strike="noStrike">
                <a:solidFill>
                  <a:srgbClr val="000000"/>
                </a:solidFill>
                <a:latin typeface="Constantia"/>
              </a:rPr>
              <a:t>is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another thing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Personification: 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When an object or animal is given human characteristics; a thing is compared to a person doing something only people can do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alyzing Figurative Langua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Today, you will look at several examples of figurative language found in </a:t>
            </a:r>
            <a:r>
              <a:rPr b="0" i="1" lang="en-US" sz="3000" spc="-1" strike="noStrike">
                <a:solidFill>
                  <a:srgbClr val="000000"/>
                </a:solidFill>
                <a:latin typeface="Constantia"/>
              </a:rPr>
              <a:t>Hope Was Here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For each example, you need to do 2 things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y the two things that are being compar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plain the nature of the comparis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In other words, how is one thing like the other thing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What is Joan Bauer trying to say by comparing these two objects?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alyzing Figurative Langua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57200" y="1461960"/>
          <a:ext cx="8229600" cy="4187880"/>
        </p:xfrm>
        <a:graphic>
          <a:graphicData uri="http://schemas.openxmlformats.org/drawingml/2006/table">
            <a:tbl>
              <a:tblPr/>
              <a:tblGrid>
                <a:gridCol w="3338640"/>
                <a:gridCol w="1771560"/>
                <a:gridCol w="3119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xample of Figurative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hat are the two things being compar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hat is the nature of the comparison?  (How is one thing like the other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he’d been sobbing by the decaf urn, having accidentally spilled a bowl of navy bean soup in the lap of a man who was, as we say in the restaurant came, one taco short of a combo platter” (1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stor Al B. Hall comes into the diner like a bolt of lightning” (63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ork Time Tas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Complete the Analyzing Figurative Language Task with the people at your table or, if you prefer, independently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os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Volunteers share out their Analyzing Figurative Language chart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22:14:07Z</dcterms:created>
  <dc:creator>Erin Hamilton</dc:creator>
  <dc:description/>
  <dc:language>en-US</dc:language>
  <cp:lastModifiedBy>Erin Hamilton</cp:lastModifiedBy>
  <dcterms:modified xsi:type="dcterms:W3CDTF">2010-11-03T22:26:47Z</dcterms:modified>
  <cp:revision>3</cp:revision>
  <dc:subject/>
  <dc:title>Creating Character Similes</dc:title>
</cp:coreProperties>
</file>